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10222"/>
        <c:axId val="36979191"/>
      </c:barChart>
      <c:catAx>
        <c:axId val="79210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79191"/>
        <c:crosses val="autoZero"/>
        <c:auto val="1"/>
        <c:lblAlgn val="ctr"/>
        <c:lblOffset val="100"/>
        <c:noMultiLvlLbl val="0"/>
      </c:catAx>
      <c:valAx>
        <c:axId val="36979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10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637-41E7-4002-9823-44BA89A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9CF-1C9A-4517-BC2B-68E82E8D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897-4766-4EF4-A39F-B792BB3A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015-BF10-4481-84E8-2110E7E8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375-B214-47A5-ADFF-5A133DA2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084-1650-4E90-9CAB-5D9B6B87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EBA-6654-4A12-9E86-646DD870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FF2-5292-4453-B128-E9F20D31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B1C-468D-42F3-87B8-1D232F97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1D9-6119-47FC-8F43-ACBB207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678-DA17-4CEC-AC15-75CBA6B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41B-3B50-4E04-8161-ECFEE92B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53FA5-0E3D-4F58-AD03-E32DA7C8CC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