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51216"/>
        <c:axId val="91314686"/>
      </c:barChart>
      <c:catAx>
        <c:axId val="44351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4686"/>
        <c:crosses val="autoZero"/>
        <c:auto val="1"/>
        <c:lblAlgn val="ctr"/>
        <c:lblOffset val="100"/>
        <c:noMultiLvlLbl val="0"/>
      </c:catAx>
      <c:valAx>
        <c:axId val="91314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1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AA0-5DAB-4EE3-9D2F-C0354537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22A-77DF-4197-89DB-F8D2FBD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AF2-F4CB-4472-B4EC-4C8FFC81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8D9-31AA-4252-B7FD-4C293D0F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CAE-32E6-4078-B6BD-D288150D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A72-C72D-4DE5-A5EE-4E25965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A7B-061B-4C21-93D2-C9AFD1B5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5B5-7EE5-4E5F-A13E-9CD3EA5E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068-06FE-4325-8879-54D8BB57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3DA-5B3B-4218-B43B-37EA846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1FE-2510-421C-B5A8-252CC15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12D-A7F7-4F8E-B732-B47BB18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64C3-8AB2-410C-B7C0-D9F10AC9E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