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35700"/>
        <c:axId val="943982"/>
      </c:barChart>
      <c:catAx>
        <c:axId val="75335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982"/>
        <c:crosses val="autoZero"/>
        <c:auto val="1"/>
        <c:lblAlgn val="ctr"/>
        <c:lblOffset val="100"/>
        <c:noMultiLvlLbl val="0"/>
      </c:catAx>
      <c:valAx>
        <c:axId val="9439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35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C13-214D-4166-9FD9-9A379831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62B-C809-47CC-8123-26A11122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48B3-D56A-458F-B84E-2D896068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5E46-E2A6-43A3-B214-9C23A776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DC9F-C796-4EB4-8749-7ABFDC9E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4153-361B-4BCC-8E84-012DA57D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F4D-2699-4CA1-92A9-0979319B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0AB-D3ED-4389-8E9B-2283ABE3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50E-69E8-4EE3-8B21-1F3DF388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AB44-7E7C-46EC-A9BD-F4D6F8C2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758-F019-45AC-9E8E-AC0EB5FE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E1A2-E1AC-4567-999E-C77B6771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42157-6E87-457E-8E0F-A9490F55DC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