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22853"/>
        <c:axId val="20215608"/>
      </c:barChart>
      <c:catAx>
        <c:axId val="13122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15608"/>
        <c:crosses val="autoZero"/>
        <c:auto val="1"/>
        <c:lblAlgn val="ctr"/>
        <c:lblOffset val="100"/>
        <c:noMultiLvlLbl val="0"/>
      </c:catAx>
      <c:valAx>
        <c:axId val="20215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22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FE2-0EEA-4916-9852-447E1F2D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708-7A1C-4DE0-8453-5F564123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477-1FC0-4A84-9164-1DBA01B3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86F-71EE-4B09-8071-32F2E42F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14D-7A55-4BA2-98A4-B6DB7030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E04-2028-4612-94E9-C0C59143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0C6-8284-4E45-A7E9-8CFB2ADD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6B2-E8F1-4205-B87B-52FE951D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ECB-754E-4F5E-9A6A-B8BBF692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78D-6CB6-45B1-87EE-EFAA08CD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1FC-8AC3-4478-8F18-5AFA6843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1C7-E86D-4A1D-BCBC-71EBCAD7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D42BF-1BC5-4C0D-90BF-8274DF40FE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