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4922"/>
        <c:axId val="34598029"/>
      </c:barChart>
      <c:catAx>
        <c:axId val="89984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8029"/>
        <c:crosses val="autoZero"/>
        <c:auto val="1"/>
        <c:lblAlgn val="ctr"/>
        <c:lblOffset val="100"/>
        <c:noMultiLvlLbl val="0"/>
      </c:catAx>
      <c:valAx>
        <c:axId val="34598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4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3DA-5DBB-4273-A153-6D327A00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AA3-E9AB-432C-911D-C772F68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B68-6F8A-448B-90CE-D9012394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9FC-7905-4F5D-B503-08FA667B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AEC-68C7-48D2-BA21-2EFC11B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C69-8747-4340-86D0-79716AB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C24-38F9-478B-8158-6735702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F4E-475E-4E7D-818D-BF05D3C3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825-0DDE-4B65-B1B2-B79B22A4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758-E50F-4EC3-9A2B-E492A72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D95-5ACD-4C15-9E15-9225C9A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DB1-5A19-4938-A6DA-2A225C8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719EC-DCA1-4B4C-9344-CBA04C690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