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407274"/>
        <c:axId val="90222808"/>
      </c:barChart>
      <c:catAx>
        <c:axId val="834072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222808"/>
        <c:crosses val="autoZero"/>
        <c:auto val="1"/>
        <c:lblAlgn val="ctr"/>
        <c:lblOffset val="100"/>
        <c:noMultiLvlLbl val="0"/>
      </c:catAx>
      <c:valAx>
        <c:axId val="902228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4072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E1A4-B6D8-4BBD-B5D9-AC3F6ED03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A808-7750-48AE-89B5-62043ABC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2164-700E-44F2-99CF-8FCD8A9A9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55DC-DDAA-4441-B71B-4A1EF2E94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08C9-61C5-4C23-822A-AF368697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B55A-F534-4B45-9A2C-CD19A201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C5C4-0289-4B1A-86B5-585DAD96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8632-F9B9-49C5-A577-57120D84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6A45-7AD1-4565-9FA6-4FECB6C7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7E5C-E218-46F0-BB1F-62987EE5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BEA4-87FA-4886-8127-5EE079D9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4BAC-1512-4E71-854B-C7822F41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09C27D-8909-4BF7-8012-C27C61E037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