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12342"/>
        <c:axId val="34160368"/>
      </c:barChart>
      <c:catAx>
        <c:axId val="65512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60368"/>
        <c:crosses val="autoZero"/>
        <c:auto val="1"/>
        <c:lblAlgn val="ctr"/>
        <c:lblOffset val="100"/>
        <c:noMultiLvlLbl val="0"/>
      </c:catAx>
      <c:valAx>
        <c:axId val="34160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12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3D0-376E-4574-883A-AD9F19EE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145-212E-45A8-A731-C7EA78CE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466-9153-4CD1-9706-DECD8E9F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B5D-CE5C-4F8C-886C-35FC23BC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F5B-D41D-411E-81AD-D6AC2EFB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0CE-A92F-4615-9543-8EC41D56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6C8-7A36-45D9-A23B-7F144D2B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03B-E7E2-4633-9580-8CDA046D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F71-B3F7-43AD-B854-BFD96375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536-A695-49F0-BA7E-213C3DB4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74B-B101-4910-B869-6A082CA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3F2-53D5-4928-989A-A35118C1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AA545-0347-4E94-A019-27DE53AF53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