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36287"/>
        <c:axId val="21375741"/>
      </c:barChart>
      <c:catAx>
        <c:axId val="43136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5741"/>
        <c:crosses val="autoZero"/>
        <c:auto val="1"/>
        <c:lblAlgn val="ctr"/>
        <c:lblOffset val="100"/>
        <c:noMultiLvlLbl val="0"/>
      </c:catAx>
      <c:valAx>
        <c:axId val="2137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6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22F-3EED-4952-AE79-606E96E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ECA-15A5-44C2-93C7-2C4BB614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550-FC16-4024-86BF-F7E755F1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31C-793B-4C7B-8D86-F8CCE0EC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F7F-B97C-484D-BAAC-17EB38F7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5ED-4F41-4DFE-B7E2-850D0F6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4C4-AFB6-4708-8171-2B6473C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4B0-7F25-4026-89E3-6869D99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FB4-C88F-4762-B84A-2C3722EC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5B1-673A-4982-A16E-AC59FD2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17C-6161-4F3F-BCAF-775E529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351-9456-4044-ADFC-A0BC2E0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65BBF-1747-45F4-8145-769BE75668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