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0131"/>
        <c:axId val="42095520"/>
      </c:barChart>
      <c:catAx>
        <c:axId val="1000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5520"/>
        <c:crosses val="autoZero"/>
        <c:auto val="1"/>
        <c:lblAlgn val="ctr"/>
        <c:lblOffset val="100"/>
        <c:noMultiLvlLbl val="0"/>
      </c:catAx>
      <c:valAx>
        <c:axId val="42095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0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8DC-E555-4A43-B0F2-488C1F37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BEA-EC92-4F34-B624-49DEBD3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75F-1682-48EB-B6F5-8CD72B4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81B-5F3D-409B-AA5A-79C1C68A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ADF-DA29-44A2-B364-8DD0573A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2B4-7BBE-4C33-B04B-607C13A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124-0FAC-46D9-B11B-302D74F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66-5F54-44F9-9BE7-F5AB9570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47A-F0B0-4BB5-96B5-FD9C2C7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139-C853-499F-9DAE-E9EB1A3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9A2-D7E6-4A57-8D00-F3E299A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514-8653-4355-9189-EBD1D6C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F5841-C1BA-4144-971C-BE9A4CE09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