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069044"/>
        <c:axId val="85884906"/>
      </c:barChart>
      <c:catAx>
        <c:axId val="820690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84906"/>
        <c:crosses val="autoZero"/>
        <c:auto val="1"/>
        <c:lblAlgn val="ctr"/>
        <c:lblOffset val="100"/>
        <c:noMultiLvlLbl val="0"/>
      </c:catAx>
      <c:valAx>
        <c:axId val="858849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690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B663-E3BA-4D61-A7E5-5BB611CC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A0F6-53DA-431B-BAF6-93E450B3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4D3E-78F5-4DED-8887-B331C312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A579-C2BA-4BE5-8F4C-710CB791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AAA0-312E-41A9-BA18-527BD4B4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BA29-8F3B-4DD0-B739-3EE29096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EF1F-8E89-4BB8-8993-291F0995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5B21-C2EE-4EE4-9CAC-F29AC133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B866-3F01-4F0F-864C-3C7BF60A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C6FE-0E67-43A9-BD05-DBF9877E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FF61-8228-4F9F-957A-9570464E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0217-20A4-44CC-AFA0-6C017278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5C4DC-0259-4AEF-B945-9D24E8E2EA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