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1733"/>
        <c:axId val="26901367"/>
      </c:barChart>
      <c:catAx>
        <c:axId val="6051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1367"/>
        <c:crosses val="autoZero"/>
        <c:auto val="1"/>
        <c:lblAlgn val="ctr"/>
        <c:lblOffset val="100"/>
        <c:noMultiLvlLbl val="0"/>
      </c:catAx>
      <c:valAx>
        <c:axId val="2690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5E6-CAFC-469C-B505-C229F24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76F-6452-4016-BE74-DE9D27BF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4DC-19E1-4310-908E-0B70F444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0FA-79A7-4545-A42D-44892D7F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BE1-B9EB-48D1-8AF8-5BD9F3D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4D9-1D07-4CFC-AAE7-51B340A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CAA-19B5-4033-87AC-3EF223D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FAE-CE82-4FB9-A189-D596B8EB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C9F-F7DD-498A-8D4E-F65733C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5FA-AA1E-44CA-9405-1FA56930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E6A-48C3-4152-A060-EB79BE1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C26-38C6-4B68-A742-8C45D90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E709C-EA88-4F37-A47A-01493F2DEC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