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838"/>
        <c:axId val="66840869"/>
      </c:barChart>
      <c:catAx>
        <c:axId val="682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40869"/>
        <c:crosses val="autoZero"/>
        <c:auto val="1"/>
        <c:lblAlgn val="ctr"/>
        <c:lblOffset val="100"/>
        <c:noMultiLvlLbl val="0"/>
      </c:catAx>
      <c:valAx>
        <c:axId val="66840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3D8-1FD0-478E-84AD-2F5E8B6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AF1-F25B-4323-BEE0-2C79D3D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080-03A9-4ECA-A78B-CE788AF8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A3A-68BE-485E-A59F-22D1232E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37B-B26C-4E73-8F4E-75BDA988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BE7-F84E-4099-A6FC-D5F9FCB0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AAC-DF7B-4FE1-A768-108663C5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F22-903B-4BDC-85E2-3A279D8E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2B1-CBDF-469A-AD71-5EC45D56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10B-30C8-4B9D-8784-0A23E36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2A0-CB21-42D5-8C61-17BB5D2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3EB-F541-4E68-9FA3-FA9632C5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75AF3-3BD3-4503-AA06-840DB48C2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