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65591"/>
        <c:axId val="51581065"/>
      </c:barChart>
      <c:catAx>
        <c:axId val="51865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81065"/>
        <c:crosses val="autoZero"/>
        <c:auto val="1"/>
        <c:lblAlgn val="ctr"/>
        <c:lblOffset val="100"/>
        <c:noMultiLvlLbl val="0"/>
      </c:catAx>
      <c:valAx>
        <c:axId val="51581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65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68CF-9C87-4545-8297-E1B09465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E1F-7C3C-4594-BED6-420DBE73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51B-0A51-48D7-ABE3-736EAD2D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178-3043-4A15-9F39-1CAED841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379-8CD2-4BF6-95BB-282D8096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118-9013-4C00-84F2-90D43246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CD0-EA50-4DC5-9AFF-0E28DBE5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435-DA68-4947-A217-7EF1FFB3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D24-011C-4399-90CA-3C3DE3BE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D374-E46E-4168-85C7-CE1524BF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634E-D85B-4FB3-9639-EEBE6134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B8F-201C-48D0-A6F5-A1DE5FC0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691A6-D474-4A0F-AD39-C26266E792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