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63251"/>
        <c:axId val="49372877"/>
      </c:barChart>
      <c:catAx>
        <c:axId val="66632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72877"/>
        <c:crosses val="autoZero"/>
        <c:auto val="1"/>
        <c:lblAlgn val="ctr"/>
        <c:lblOffset val="100"/>
        <c:noMultiLvlLbl val="0"/>
      </c:catAx>
      <c:valAx>
        <c:axId val="493728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32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FBB6-7257-4E8E-BCCC-59DF799E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1EEA-2AD3-46C6-ABF6-0044F64D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2191-B339-4C10-ADAD-03E3141D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CD7F-CDB7-4EEF-A4AE-D3038FA9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A6F4-313A-4A9B-B78B-A123B84F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CDC3-E589-4284-987A-1C1B3676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BD98-2926-448E-B76A-E4F732F2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7C33-008D-4A29-8537-59FEBD01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32FF-1886-4907-9DBC-C2F902CD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88DA-BA69-4BB4-B415-08BFA465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BEBE-88A8-4FD3-9D26-15E3C360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B9BA-DD70-4DA3-9A5C-5F7E9290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2EF77-C4F8-40AC-BC8E-F2D5055B03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