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7847"/>
        <c:axId val="47794025"/>
      </c:barChart>
      <c:catAx>
        <c:axId val="7307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94025"/>
        <c:crosses val="autoZero"/>
        <c:auto val="1"/>
        <c:lblAlgn val="ctr"/>
        <c:lblOffset val="100"/>
        <c:noMultiLvlLbl val="0"/>
      </c:catAx>
      <c:valAx>
        <c:axId val="47794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7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14F-7A72-4421-B680-3D9E474C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584-C006-41DF-8EC0-B25A3FAF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7AB-FCE8-46E0-8581-5B8653CC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8F2-6431-40B9-A819-410B8B9B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B53-9E57-4AB7-B890-E1A7F898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E71-BE26-46F8-9F74-F9D99FA8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79F-7297-4E11-9B0F-587F0775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401-4CFF-47B5-92CE-03846BC6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B93-19AF-4D07-8288-6D0B69B6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188-1703-451B-B600-F075D113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D86-10E3-4333-9567-4190A50E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48E-343F-4A64-BF1E-E836E8C4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7C35B-090F-4676-A292-28543FD856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