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372"/>
        <c:axId val="57284049"/>
      </c:barChart>
      <c:catAx>
        <c:axId val="324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84049"/>
        <c:crosses val="autoZero"/>
        <c:auto val="1"/>
        <c:lblAlgn val="ctr"/>
        <c:lblOffset val="100"/>
        <c:noMultiLvlLbl val="0"/>
      </c:catAx>
      <c:valAx>
        <c:axId val="57284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3A1-671B-4CC7-8452-DB39C9E8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DAA-4C53-438E-BDBD-232BFE70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9383-F516-4934-B22D-B3211D95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E40F-D422-4CC2-BEA6-93F73E98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4A6-480A-4129-83A7-443361C0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BB96-C3A3-4234-8E37-4C0C3936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051-F74B-4C7C-88C2-380AE885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6C4C-1314-44D8-A69F-2A84F4E1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88B-C18A-4152-B818-16A2BBE3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848C-3419-4A20-A875-3462770E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12A2-9BA9-4DD8-84FE-E3D03577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06A-D72E-466F-95E0-05F45A92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09D34-646C-4BBB-8C1C-A6AFB526A2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