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78991"/>
        <c:axId val="78413547"/>
      </c:barChart>
      <c:catAx>
        <c:axId val="36078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13547"/>
        <c:crosses val="autoZero"/>
        <c:auto val="1"/>
        <c:lblAlgn val="ctr"/>
        <c:lblOffset val="100"/>
        <c:noMultiLvlLbl val="0"/>
      </c:catAx>
      <c:valAx>
        <c:axId val="78413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8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7C4-ECFF-463B-A5AA-7AEB3E46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484-D135-4DFE-AF50-193F1029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A26-47F9-4962-866B-91AE303F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3FE-BE8E-4D59-9361-09C5D8AC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A5E-F700-4861-BD0B-F1051C3C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B0E-D79E-47BC-9A6E-0EB19812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A87-C08E-4640-B423-3D39688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5C4-17D4-46E4-AB8F-7D801FE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700-BB5A-4877-8D1F-00B04C5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1A6-7503-416C-A636-85813B38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5F9-B923-4ED1-8703-E50D9829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A87-BEDA-4969-AB43-4796AF3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4FDA1-7CE3-430C-904D-D59C2654C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