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27736"/>
        <c:axId val="88457312"/>
      </c:barChart>
      <c:catAx>
        <c:axId val="92627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57312"/>
        <c:crosses val="autoZero"/>
        <c:auto val="1"/>
        <c:lblAlgn val="ctr"/>
        <c:lblOffset val="100"/>
        <c:noMultiLvlLbl val="0"/>
      </c:catAx>
      <c:valAx>
        <c:axId val="88457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7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B9E-756F-4483-BA7D-B842B06E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D85-17CA-479A-B3D7-9EB02F96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669-79B1-4952-9E19-11AEEA62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DB0-B17D-4B22-B1F2-A66E33D1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3A1-C717-4239-8B23-6229A098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BC5-6842-4C35-8758-BFC6CBF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32A-0075-4676-9B77-5A67EED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C48-015C-476A-A095-4206652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4FB-233C-453C-B53C-F1A6F295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9A5-2913-493D-A0D0-F8FB136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00C-D3D3-462E-A88F-9BFC288F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6F6-3DE3-4976-8DBD-4FD733D1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35233-C59F-4A63-A1F2-EFAFECE422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