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01678"/>
        <c:axId val="69646982"/>
      </c:barChart>
      <c:catAx>
        <c:axId val="97501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6982"/>
        <c:crosses val="autoZero"/>
        <c:auto val="1"/>
        <c:lblAlgn val="ctr"/>
        <c:lblOffset val="100"/>
        <c:noMultiLvlLbl val="0"/>
      </c:catAx>
      <c:valAx>
        <c:axId val="696469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01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FA76-84AF-4536-8DEB-B84DE4B59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B26-134D-4CCD-B866-D10388A9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9E4-F7D0-42A8-B657-42835491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54A-A565-4F07-86FB-2045E5A7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AD0-186F-47B2-898E-5DD0C351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BAD-697A-40A2-9F0B-4F3DB6E8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23D-990E-4389-BACA-E10538B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B79-2C7A-4256-A344-B195773C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8FD-F6EC-49D8-8AD8-3D3A78AE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D6D-65FC-4076-B736-97F8A571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2E8-A0E2-4A95-94BC-C999DCE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5EA-4178-4444-A618-BFD09CA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DBE0E-8AE2-4D6C-9D4E-BC6AC5F381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