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52732"/>
        <c:axId val="55773370"/>
      </c:barChart>
      <c:catAx>
        <c:axId val="11752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73370"/>
        <c:crosses val="autoZero"/>
        <c:auto val="1"/>
        <c:lblAlgn val="ctr"/>
        <c:lblOffset val="100"/>
        <c:noMultiLvlLbl val="0"/>
      </c:catAx>
      <c:valAx>
        <c:axId val="55773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52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5CD-0515-43B2-9B8E-27CCF84A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9DC1-558E-4FC5-B346-00DB74BC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61C5-BE57-4E63-8066-BF53F8C8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00D-3B4F-4383-B68C-80CA8519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64F-D180-497C-BCBF-844DA412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6F5-6B0B-43F8-B304-AA754C9D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FCE-8D82-4FBA-9198-2FBB18BE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170-65E6-4233-BF5B-21F44F31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5B3-3DCC-48C7-8857-97A45BE0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BAF-2AFE-49A9-9500-6C887AA8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534-A846-4F3C-8F50-6AFC633A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273E-BEE2-4BBE-AED9-4691D02D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8643F-FC17-401D-BF1F-657E7C617E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