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08330"/>
        <c:axId val="28162906"/>
      </c:barChart>
      <c:catAx>
        <c:axId val="79808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62906"/>
        <c:crosses val="autoZero"/>
        <c:auto val="1"/>
        <c:lblAlgn val="ctr"/>
        <c:lblOffset val="100"/>
        <c:noMultiLvlLbl val="0"/>
      </c:catAx>
      <c:valAx>
        <c:axId val="28162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8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91A-19EA-4FB9-AE4F-AEA6BF43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30D-60A6-4CBA-B702-880F74C8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D87-D8DA-4DD7-85DA-5491FEDB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3F6-10A4-490A-B75B-BFD22261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351-F05E-44BE-AA0F-A38DD580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E8A-E0A9-4C09-9BF0-47A4AD8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6FC-E47B-4BAF-93FE-6ED3994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F70-1112-4450-B94F-A56C3C1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4E7-E2F3-4D21-AB0D-3BF89C6B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D34-2F71-4597-B160-5B75864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831-AEFD-440A-97FB-21393C3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A55-8665-4D13-B7F1-D8D0A3F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D42EB-5803-48AA-A996-C5FE62293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