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97695"/>
        <c:axId val="42935332"/>
      </c:barChart>
      <c:catAx>
        <c:axId val="35397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35332"/>
        <c:crosses val="autoZero"/>
        <c:auto val="1"/>
        <c:lblAlgn val="ctr"/>
        <c:lblOffset val="100"/>
        <c:noMultiLvlLbl val="0"/>
      </c:catAx>
      <c:valAx>
        <c:axId val="42935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97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F8B-640D-4CD3-A311-19DAEC33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903-7864-45D9-BB5A-8BC2AC43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7CA-102D-433C-9A9C-E0C68DA8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9D4-EEE4-4865-ADFE-DB9E9D37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E3F-FFC4-4A97-98A2-C365A348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E76-2FA3-4856-AE78-843812FC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1F9-11F9-408C-B17D-19C9F36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EE0-F4FD-4309-870C-91FDA9B4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A31-724F-4171-B82B-F4EE1D8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70C-D581-4EDA-898B-762CFB3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9CB-9FC6-4C56-AE7A-FD71131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715-84CE-4827-ADDB-6286709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2DBEB-C629-4F4F-A416-05BD1B180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