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2590"/>
        <c:axId val="60760920"/>
      </c:barChart>
      <c:catAx>
        <c:axId val="1042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60920"/>
        <c:crosses val="autoZero"/>
        <c:auto val="1"/>
        <c:lblAlgn val="ctr"/>
        <c:lblOffset val="100"/>
        <c:noMultiLvlLbl val="0"/>
      </c:catAx>
      <c:valAx>
        <c:axId val="60760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D0A-7364-44A0-900D-BAC122E6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772-592C-46ED-87A9-4C9C077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528-1B3E-471B-92FB-3B272BE0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A6B-12B4-46F2-8A8B-A5842DA9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414-CA8D-4750-AD16-C76BC278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3E9-9161-4C7F-8247-3D19AA8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76E-50D7-4AA9-A423-0F3589A9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B1D-DA8D-4922-BD7E-4DFDDB9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54A-CE93-4D76-BFF8-54CF85F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337-C7CE-4896-8E9E-0E80800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BA0-5ADB-49E7-9777-3BC39DB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52F-53F1-4C73-BDFC-F30EC1CC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47DF5-CEB3-4495-A10F-55387B2E7A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