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5510"/>
        <c:axId val="48795064"/>
      </c:barChart>
      <c:catAx>
        <c:axId val="45055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95064"/>
        <c:crosses val="autoZero"/>
        <c:auto val="1"/>
        <c:lblAlgn val="ctr"/>
        <c:lblOffset val="100"/>
        <c:noMultiLvlLbl val="0"/>
      </c:catAx>
      <c:valAx>
        <c:axId val="487950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55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6D7-7570-41AC-B191-BAA85563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1899-5DEF-4F1C-95CE-9174221F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7466-CD7B-443D-BF42-36D3BDAB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F1BC-C61C-480D-B691-6BDFEB3F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5B81-9680-463E-AB49-71D8EA5D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95E8-5A37-4A90-BC9F-C5B06EDC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817C-20B1-4A42-B7CF-8A942911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B9DF-50FC-4742-860C-DEB7F35F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B6EE-0AAB-467F-A444-EDC86843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8E8C-2379-4416-A996-34ECF14C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EA06-28B9-4196-A4AA-80BD49F3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7F57-7DE5-4902-AAB4-584B2E75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3155B-FF33-4588-8B4F-6564AF850D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