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3602209"/>
        <c:axId val="7990717"/>
      </c:barChart>
      <c:catAx>
        <c:axId val="4360220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90717"/>
        <c:crosses val="autoZero"/>
        <c:auto val="1"/>
        <c:lblAlgn val="ctr"/>
        <c:lblOffset val="100"/>
        <c:noMultiLvlLbl val="0"/>
      </c:catAx>
      <c:valAx>
        <c:axId val="799071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60220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7B1EA-513F-4EF6-AF5C-03A9D37B8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EDC7B-11D6-4783-AC9C-6D4266B10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FE07D-F4DA-4BDE-9DD9-F1A8C2860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56D92-3727-4A18-83F2-AC9703E77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9E15B-0F62-4F55-A08B-E897E3637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3D347-E44D-49D5-A3A8-F74D485FF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55D5E-B866-4A40-950C-902CBD651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7C31F-C7B6-4020-86B5-F804F74B7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39BF5-DFA6-4D19-8180-112DFE0B1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11BE3-763A-4EA0-8BC5-94D2D71F0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9D921-4B65-4B9F-AA70-37207D56E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967AF-F24B-46A2-AB36-8B1DD15E8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D3094E-669E-429F-9D54-6ED14B6E8E0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