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63739"/>
        <c:axId val="65968747"/>
      </c:barChart>
      <c:catAx>
        <c:axId val="12363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68747"/>
        <c:crosses val="autoZero"/>
        <c:auto val="1"/>
        <c:lblAlgn val="ctr"/>
        <c:lblOffset val="100"/>
        <c:noMultiLvlLbl val="0"/>
      </c:catAx>
      <c:valAx>
        <c:axId val="65968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63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7E3-40C8-45BF-A170-8601828C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C02-5FFA-491E-86D0-D4F72E5E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B0A-3F43-4AA0-9C11-36F4A1A6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775-5602-461D-B0DC-7A00634E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98C-D46C-48C7-ADBA-65A822E7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577-2F88-4862-83F4-8E1BA547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193-E039-4BF2-96F0-C93E0D11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888-B232-4FB5-A231-0D8313AD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7A5-3A04-40D2-AB50-EE392C9C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F994-0D06-41D9-B6D9-440A163F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978-2B63-467D-B491-DCCF435C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836-9455-4102-9C3F-4C294317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384B0-6F4D-438B-AD81-8CA8FE4479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