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07330"/>
        <c:axId val="40194447"/>
      </c:barChart>
      <c:catAx>
        <c:axId val="30007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94447"/>
        <c:crosses val="autoZero"/>
        <c:auto val="1"/>
        <c:lblAlgn val="ctr"/>
        <c:lblOffset val="100"/>
        <c:noMultiLvlLbl val="0"/>
      </c:catAx>
      <c:valAx>
        <c:axId val="40194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07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652-D267-4C0A-A51A-187CE3F9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62B-34A4-4436-ABD3-02A0F65D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ECA-0817-408C-AF39-85B77095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047-3180-4F30-A680-C598C9A5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0A1-829B-4B10-8A31-1C89DA48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7BB-364B-4493-89FB-1775FF52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F3C-7A0F-4E98-A6B8-F8C84F5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019-C425-471B-BA1B-BB57ED5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73A-3FBA-4383-AD71-AC5E9401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1F9-FA41-4AA3-BD13-052F92C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6A8-1820-4E20-A5F7-72D4915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49D-5C89-47A2-8B16-F0C0C7C1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13870-5707-4DFB-A495-4E64402CD7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