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28200"/>
        <c:axId val="73474383"/>
      </c:barChart>
      <c:catAx>
        <c:axId val="44928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74383"/>
        <c:crosses val="autoZero"/>
        <c:auto val="1"/>
        <c:lblAlgn val="ctr"/>
        <c:lblOffset val="100"/>
        <c:noMultiLvlLbl val="0"/>
      </c:catAx>
      <c:valAx>
        <c:axId val="73474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28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2146-D6BD-451D-B5EF-77B3C0D4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13D-54A3-4FD2-B93B-5C3B044B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B5F-A1DF-4A89-B7BA-B9FCE874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DE5-6FD6-4DA8-9D19-76422757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421-E674-4742-99A7-E8A1E144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A0D-D5B9-41F2-ACAF-9A861CDE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C74-1CBD-44A7-B940-857B7CCA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63F-EFB0-42EC-856C-530D3E81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60A-176A-4177-93DD-7D13860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2E5-9B85-48EB-A8FA-316CD610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197-A9E1-49F4-852F-5C3D6344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0E5-E433-46C6-A0CE-4B90AF6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DB3E1-FC75-4523-9AA0-92AD2AA0C0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