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614598"/>
        <c:axId val="6325906"/>
      </c:barChart>
      <c:catAx>
        <c:axId val="546145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25906"/>
        <c:crosses val="autoZero"/>
        <c:auto val="1"/>
        <c:lblAlgn val="ctr"/>
        <c:lblOffset val="100"/>
        <c:noMultiLvlLbl val="0"/>
      </c:catAx>
      <c:valAx>
        <c:axId val="63259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6145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C1E0-B217-487D-85DA-D84EB51BA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FFF-DCDC-4A3B-AD1A-5868A1E89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D930-4A95-4AC7-A81D-8E8B53094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5774-EE45-4C87-AD0D-A38B2253F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4271-AEBD-4CA7-A446-50C834218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B68A9-4149-4F3C-A024-E9A435276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8701-21A8-48FB-A527-CEC44E8D1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5B13-6898-446E-BB9B-D7DFA9E63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F914-888C-4AC9-9D4F-61F98E136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B4AE-AE58-4F35-8E07-94F55AA08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2316-0100-45D6-BAAD-3FFBEF088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6F03-44EF-4866-8ED2-4E325C277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B991BA-27C2-4D4C-9696-48A417E8A66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