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6382D-1DA8-47A2-8224-4E30E3A59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FF708-E37B-4E5C-A38A-66D619F38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E9EA-8B6F-4DA8-AD51-C51E1CD02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C4BE6-A5BE-4F07-A957-261B4D2F7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4470-9019-4430-A053-AFFE22B9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FDBCA-C5AF-4E20-AC68-6842249B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0E06-293D-4CBC-BCA1-7EF9CF515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A25EF-7551-45DA-8AC9-23CBCC4E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1012-99F1-498F-9642-9505548A4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47AF6-9BFF-4AC0-87ED-CAC58FA1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A354C-39B8-4902-9998-98E0C0F1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CDE0-7184-435D-A05B-92E0738A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26E73-7044-4957-85D0-7F41586726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bd10496_" descr=""/>
          <p:cNvPicPr/>
          <p:nvPr/>
        </p:nvPicPr>
        <p:blipFill>
          <a:blip r:embed="rId1"/>
          <a:stretch/>
        </p:blipFill>
        <p:spPr>
          <a:xfrm>
            <a:off x="2552760" y="1571760"/>
            <a:ext cx="4038480" cy="371304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1447920" y="457200"/>
            <a:ext cx="6400800" cy="581400"/>
          </a:xfrm>
          <a:prstGeom prst="rect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“</a:t>
            </a:r>
            <a:r>
              <a:rPr b="1" i="1" lang="en-US" sz="3200" spc="-1" strike="noStrike">
                <a:solidFill>
                  <a:srgbClr val="3366ff"/>
                </a:solidFill>
                <a:latin typeface="Times New Roman"/>
              </a:rPr>
              <a:t>HAPPY BIRTHDAY SCOTT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" y="1905120"/>
            <a:ext cx="1905120" cy="155628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Times New Roman"/>
              </a:rPr>
              <a:t>Have a HAPPY 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934320" y="2819520"/>
            <a:ext cx="1904760" cy="2226960"/>
          </a:xfrm>
          <a:prstGeom prst="rect">
            <a:avLst/>
          </a:prstGeom>
          <a:noFill/>
          <a:ln w="936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7c80"/>
                </a:solidFill>
                <a:latin typeface="Times New Roman"/>
              </a:rPr>
              <a:t>PS Nobody is allowed to hassle Scott TODAY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5568840"/>
            <a:ext cx="7620120" cy="8254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ff"/>
                </a:solidFill>
                <a:latin typeface="Times New Roman"/>
              </a:rPr>
              <a:t>Drinks will be in the Boardroom at 5pm today to celebrate Scott’s B’Day…  See you all ther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8T22:55:39Z</dcterms:created>
  <dc:creator>Caroline Green</dc:creator>
  <dc:description/>
  <dc:language>en-US</dc:language>
  <cp:lastModifiedBy>Caroline Green</cp:lastModifiedBy>
  <dcterms:modified xsi:type="dcterms:W3CDTF">2002-04-18T23:14:00Z</dcterms:modified>
  <cp:revision>2</cp:revision>
  <dc:subject/>
  <dc:title>PowerPoint Presentation</dc:title>
</cp:coreProperties>
</file>