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425A-4F47-4027-A106-73A3DA0F419B}" type="slidenum">
              <a:rPr b="0" lang="mk-MK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s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otes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5980-3617-4B10-A472-6EB987FAE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0E65D-5F9E-496A-ABBC-115A0FAD1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CBCB6-5F7E-44C2-A1B9-5C5378344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12BD7-C935-4B29-B0B3-3F7D40FA37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27C3-00D7-4F4B-8503-550689E0A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45E0C-3E8D-4767-A6DB-B558AC5A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15604-A2E9-4E64-8C7B-AE6372861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3242-BF2E-4CC6-9215-C128365F15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04616-4923-4E0B-8A6F-9069078C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A74D5-9A13-4866-BCA9-B0E6B9A5E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8ECA5-0C1A-4A47-8399-7BBFA8DD1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582E7-8B56-464F-B330-CBC3A24C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mk-M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mk-M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9EC5D-4E2F-4288-944F-92F845BC9139}" type="slidenum">
              <a:rPr b="0" lang="mk-M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21T18:40:21Z</dcterms:created>
  <dc:creator>Ivan Todoroski</dc:creator>
  <dc:description/>
  <dc:language>en-US</dc:language>
  <cp:lastModifiedBy>Yegor Kozlov</cp:lastModifiedBy>
  <dcterms:modified xsi:type="dcterms:W3CDTF">2007-05-23T15:12:32Z</dcterms:modified>
  <cp:revision>5</cp:revision>
  <dc:subject/>
  <dc:title>Slide 1</dc:title>
</cp:coreProperties>
</file>