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8E574-0639-4536-B9D1-452747F24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2E8-E76C-4109-9156-A75E7E6D4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58F0C-1596-42E3-831E-3735A28865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B7B72-2AF1-40E7-B58D-A1FF98795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0E5-7AB1-472F-8C5D-1FEDD49AC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DE84-C57D-4095-901B-58DFC1397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71F52-C398-4BC5-9D38-19C0BE265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68CA5-DC88-4583-81A6-AED9D1FF6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EA280-6820-4B16-A34E-5F67DB52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04D2-D5A8-4287-B8CE-4A9D29B0B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8711-7F16-4830-840B-3F85E60AE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73F97-1AC5-4166-A93C-63F9FC39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1BFC2-761F-4B6D-B8B0-028F1936A0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3367080" y="2300400"/>
            <a:ext cx="2409840" cy="22572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348000" y="1773360"/>
            <a:ext cx="25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800" spc="-1" strike="noStrike">
                <a:solidFill>
                  <a:srgbClr val="000000"/>
                </a:solidFill>
                <a:latin typeface="Arial"/>
              </a:rPr>
              <a:t>Here is a PNG imag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5T23:08:48Z</dcterms:created>
  <dc:creator>Daniel Noll</dc:creator>
  <dc:description/>
  <dc:language>en-US</dc:language>
  <cp:lastModifiedBy>Daniel Noll</cp:lastModifiedBy>
  <dcterms:modified xsi:type="dcterms:W3CDTF">2006-01-15T23:16:02Z</dcterms:modified>
  <cp:revision>3</cp:revision>
  <dc:subject/>
  <dc:title>Slide 1</dc:title>
</cp:coreProperties>
</file>