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BF585-82FF-4673-9116-F4765D20E0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1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4EE59-F31F-4C79-9949-A17DC03272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5E333-2805-4321-8B83-67BFB1B17813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Header Placeholder 6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is slide, we’ve defined its own custom foot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2295E-73A8-4930-8CAB-B9B7C97DBEDC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28071B-C576-4AD0-A7B2-6C72AC6E9E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s for slide 3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e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HEAD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Date Placeholder 4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867B5-85C8-4957-9028-3037521E1E85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NOTES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Slide Number Placeholder 6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CE589-1133-4722-AFEA-6C149E7E5E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DC06-93FB-43BF-B589-57A6F658A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9825A-5AD5-4663-B0B1-E4D0D3316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B630-B28E-4146-96A8-B99D1DAF0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BA5B9-DF81-4651-86BB-2FC54E77F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B3898-089F-4D3C-A835-EFDFDD60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A496-896D-4F4D-A462-64CD1C90D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C89ED-3704-4006-8A40-300DCD108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4F52D-16FE-48D1-A543-71B0CF259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F5D05-F7DA-4CED-9029-5642C2708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86D2-70EC-47E8-BE7F-075B5396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009DD-8159-42A6-8E6A-B7951A80D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E29B-E854-4772-9EC1-4B95BF381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7177E1-90F1-41D7-A0FA-7B3B02EE9A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590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First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con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rd poi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Slide Number Placehold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F7274-C534-49E8-9F74-B37CB5496F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oter Placeholder 5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 FOR SLIDE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DE88-7E1C-4845-A630-F503D22BD73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1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int 2 of slide 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Wednesday, August 06, 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Footer Placeholder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THE FOOTER TEX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Slide Number Placehold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CEFC-E775-4FBE-9E43-DD62FAFB00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6T04:51:10Z</dcterms:created>
  <dc:creator>Dmitry Goldenberg</dc:creator>
  <dc:description/>
  <dc:language>en-US</dc:language>
  <cp:lastModifiedBy>Dmitry Goldenberg</cp:lastModifiedBy>
  <dcterms:modified xsi:type="dcterms:W3CDTF">2008-08-06T05:00:38Z</dcterms:modified>
  <cp:revision>4</cp:revision>
  <dc:subject/>
  <dc:title>Slide 1</dc:title>
</cp:coreProperties>
</file>