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105F1835-C333-4330-8EF6-8912BBD765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B59BF48E-DD0D-4A8E-A168-985054ACCF7C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05538982-392E-4DC1-A0DC-5918634F62FE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D1E43F6-E328-402B-97A5-078C6CB62E27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39CC59B-2951-40DB-8F83-6353963A1A8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8F024CF9-732A-4505-99A4-A738799C4C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DC0B30C-D5C3-4003-8249-2E2D9264B153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04920" y="1295280"/>
            <a:ext cx="8381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st Item Th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380880" y="266688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 numbered list may start at any numbe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would be used as a continuation list on another p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list should start with #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90" name="TextBox 2"/>
          <p:cNvSpPr/>
          <p:nvPr/>
        </p:nvSpPr>
        <p:spPr>
          <a:xfrm>
            <a:off x="380880" y="1371600"/>
            <a:ext cx="678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0T01:38:40Z</dcterms:modified>
  <cp:revision>21</cp:revision>
  <dc:subject/>
  <dc:title>Course Title Goes Here</dc:title>
</cp:coreProperties>
</file>